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4FE-E9BC-45D2-87C8-D451136A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13D-E33C-4EFD-960B-CD12E3DE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2E2-B5F6-4E2A-A716-E7500680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687-A20A-4C01-85C5-C7BD078B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ACF8-503B-4BE4-9FA3-325E43FD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7C9C-8B4C-4E51-872F-7064A3C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81D3-88A7-4E23-8119-BBE4433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C18D-97C1-4895-A534-B9D6DDB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8AFB-F922-4723-BD2E-E7ECAF07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C07-47EB-40AD-BC6D-6C60D41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B2B2-2FF6-4004-926E-D09E75F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6D5-57F1-4C54-932C-DFB51903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0E42-4FFA-4B2A-AA57-D3C0A15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C69-4148-4C22-9FCD-CA0C58D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645-3416-46D6-93B4-35B6662C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B66D-A3E7-407F-BBAE-F6510AB6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1E53-F37E-4307-8353-4A72AF24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8C1-F962-459B-8373-2B5D181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E98-9039-41C3-B2F6-F3EB4877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9B8-4ABB-4C1B-9C20-C5C9E35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DB3-B125-4A15-9999-27A94B9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0E4-2D99-449A-AD90-F75B17C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047-AD98-4DBB-8A47-34DDD02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9C5-69C6-4D85-A866-A2F6B31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0D1-3E99-4708-9D1E-E99B70BA37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D50F-0D16-47E9-ACA5-B0FAF25A5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Independent and dependent clauses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related group of words with a subject and predicate is called a cla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clause that </a:t>
            </a:r>
            <a:r>
              <a:rPr b="0" lang="en-US" sz="3500" spc="-1" strike="noStrike">
                <a:solidFill>
                  <a:srgbClr val="66ffff"/>
                </a:solidFill>
                <a:latin typeface="Arial"/>
              </a:rPr>
              <a:t>makes sens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by itself is an </a:t>
            </a:r>
            <a:r>
              <a:rPr b="0" lang="en-US" sz="3500" spc="-1" strike="noStrike">
                <a:solidFill>
                  <a:srgbClr val="99ff33"/>
                </a:solidFill>
                <a:latin typeface="Arial"/>
              </a:rPr>
              <a:t>independent clau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clause that </a:t>
            </a:r>
            <a:r>
              <a:rPr b="0" lang="en-US" sz="3500" spc="-1" strike="noStrike">
                <a:solidFill>
                  <a:srgbClr val="66ffff"/>
                </a:solidFill>
                <a:latin typeface="Arial"/>
              </a:rPr>
              <a:t>does not make sens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by itself is a </a:t>
            </a:r>
            <a:r>
              <a:rPr b="0" lang="en-US" sz="3500" spc="-1" strike="noStrike">
                <a:solidFill>
                  <a:srgbClr val="99ff33"/>
                </a:solidFill>
                <a:latin typeface="Arial"/>
              </a:rPr>
              <a:t>dependent clau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complex sentence contains an independent and dependent clau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9ff33"/>
                </a:solidFill>
                <a:uFillTx/>
                <a:latin typeface="Arial"/>
              </a:rPr>
              <a:t>Independent claus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Native Americans lived on the island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until they were attack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66ffff"/>
                </a:solidFill>
                <a:latin typeface="Arial"/>
              </a:rPr>
              <a:t>Dependent claus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438280"/>
            <a:ext cx="1905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95680" y="4267080"/>
            <a:ext cx="9144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for independent or dependent cla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 if you live on an island_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 the tides affect your life_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.  the water level rises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.  when the tide comes in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5.  much of the beach disappears under water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6.  until the tide goes out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25:05Z</dcterms:created>
  <dc:creator>Valued Customer</dc:creator>
  <dc:description/>
  <dc:language>en-US</dc:language>
  <cp:lastModifiedBy>Valued Customer</cp:lastModifiedBy>
  <dcterms:modified xsi:type="dcterms:W3CDTF">2007-09-04T15:53:40Z</dcterms:modified>
  <cp:revision>2</cp:revision>
  <dc:subject/>
  <dc:title>Independent and dependent clauses.</dc:title>
</cp:coreProperties>
</file>